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751-25E2-44E9-84D1-01A81D81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8B6-9EC0-425F-A03E-77252E66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D5C59-3D75-42FA-BA4F-E2E50113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1FF5D-53C2-49EE-B871-14EFA240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43EDD-4BE5-404C-98EA-96115C22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FD2EC-5522-46F4-ABCD-AEBFBCBC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E899C-B1E9-40EF-98AC-02A6801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E1161-BC05-4088-B902-6EE2D388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2A1D8-E994-4E04-94C2-8A64E2CF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B4BDF-5F1F-494E-A3DC-054F758A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8BDB8-0EA7-4357-9E61-82D8DA5D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47653-7EF8-410E-8C8B-A46CF15D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6C5-0C63-4E98-8B46-59CA594A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E02B2-450A-4B11-BBC5-C4B5F42B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C6D81-9D23-4AB0-A5C9-E5AD26DA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84BD2-5400-451D-B53B-A8D7CE63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D84D7-D77A-4EF5-86A2-D38B484B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F6174-6B13-43DE-82C6-86BF8158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9247C-E4CF-43A8-B6DB-B6C5E5FF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0EF43-0009-4253-9732-953E3C7B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6434C-CF56-40B0-8AC5-09A1BF53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CDC3B-F4B9-468A-A008-BC97465B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AE67D-365D-4AF7-B6A7-C3B4D8B1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7C2-2B6F-4D02-8B9D-12885C94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92C4D-29FA-4A17-9B52-5D0FB882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4118-72D6-4994-8FC6-395DA83D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2ED3A-7CCF-4859-8906-9794E743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D18B3-D57E-4C66-9C77-DE900AAA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538BA-4D78-419B-9D53-167CD872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90C59-9A82-4E85-A549-6527A559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A0F63-0226-4861-B728-87646058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525E4-A537-448B-AEF4-33CF399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C4A07-D61C-4DB7-8831-191E1374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ACE1C-083D-4926-942A-8192338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265-9862-4A07-BA88-AF041325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313D1-57E6-40C6-AA64-252ED209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4860A-221C-4CDE-86F3-0DF168B4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1B5E3-5C1C-4FD1-B462-5F438308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8A4F8-2CE9-4473-B137-531674F6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44B2D-AA6A-4DF9-ADBD-4637E645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1D6AE-2DAC-4579-9D61-BE42438A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F3AE2-65AE-40C2-A768-24BD08B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829FF-67C9-465B-8464-E1D9D506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0BD68-AE01-4813-9361-6ED02CEE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5CC49-77AB-4104-BAE6-BD4BA97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C91D-F3BF-48A2-ABBF-58CCE858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E4D36-7389-465E-A97D-9604B82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6D549-47A7-49ED-B57A-B2736972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43A9E-8C30-4052-B9CD-0D6B2EE0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4E859-FAD0-4CF1-BCBA-454F47D3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78CA2-1C21-419A-90DC-252C8FDC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7BDC-C734-448A-ABF5-DCB450A2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E95D-909A-4905-819B-BD907028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480F-4A6E-4FA2-BAB5-64C95E52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C0AC-5FEB-452C-9065-60E56298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65A5-8241-459D-B06E-AA0750F7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935-0E80-4017-A0EB-1060AF90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3979-8E0A-45D7-91EF-03C91EA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2BD2-D36B-4E20-A0F5-149950F2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9ACE-071E-4959-A1DD-E44D0AC3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8A6E-240C-43AD-84B7-D0386D39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74D5-7792-438C-BAB5-FDF12CAF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5B8B-5EDE-41A1-94A5-B0A8C43F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1604F-DC20-4357-AC7C-43ED6956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CBBB-FB0C-4FED-A462-D048A019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D4B4-DE4F-4291-AED3-EE0C8696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5F79-9359-4153-9034-38BE6E61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EDD-0700-4E74-8BD6-791B3E5B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424D-398F-4117-821D-5C8D1A4D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749B-F755-4557-A9CA-83D59E83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62C9-912D-4B45-B1D2-46E4D0BB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1520-44F0-4867-AB3F-B5EDC11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1165-B92D-4D1A-B24A-928A9957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2FB3-EA66-4B51-A68C-40B81630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ABF0-5F69-4494-B3D9-34BC260F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15E10-BCD7-4A49-9855-D7FA93F4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8310-F4EA-483A-B801-4AD737A3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28C0-00BA-44DB-9555-16B0B477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BCA-AE97-4D4A-B949-C20BBE95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A9BD-E670-4767-9F9A-DD7B79E2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423F-A86B-43D8-A698-5CF1F7A0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16CB-9809-450E-AC48-36185A10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C8D96-C551-4D9B-AC24-A18E6A8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298F-A26B-4F2E-A1A6-A8CCF47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DC03-1DFC-4E6A-AB3B-AB58156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9D6B-5F25-4FBE-B0E4-939B9673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D0B92-D228-48F4-8A01-CF665ADC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9129-927F-4F80-9512-8E5BF5F2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F164-8562-4EB8-91EF-6D0605CE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B45-5DAA-4DC5-8EC5-3A4C8A60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9110-8E59-4713-92DD-C6CA7053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2F9E7-F620-4DF6-9DD2-E063B198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F7BD-B9BC-4F00-9612-252E4AA4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36C1D-4011-44DD-BBFD-9FF9CA41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F531-4F24-4CC1-B03F-D253D8C9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E9AD-1378-488F-8FE7-AE9694BB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C5F40-5BAB-4554-8525-BAFDE5E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1A02-940C-41C9-9F16-E144472E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94C6-1744-47A6-8638-4A31F4C5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DB68-FF27-4D3A-885B-09317765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3AB-E738-414F-BD70-D167C011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2529B-3AD5-4AE1-B290-668C87B9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339BD-84F2-4819-8F09-F7B06530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A59BB-AA9B-41BF-8B2A-6A04EEF2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0D744-1937-4358-8E72-FBC41FA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7C1C8-102B-4BA5-9C84-D6780353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CA30-B41A-45B5-8280-970B68AF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EC800-0C2F-413E-A238-E55DD140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1C216-12EA-4FF7-9338-670FBA39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9186F-2E47-4983-AD61-E1F7C0D3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7A398-33FF-4169-BF61-CA42F317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AB3-5567-418A-A399-330684E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A5995-BECF-4CB2-B60D-E744DE75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3ECB-7805-4B7E-8AEF-385A8D8D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03E7-0A1B-4D5D-AE28-71474307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BEE2-1AFF-4F82-819B-BD1942B1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34349-DA51-44B7-83FD-D1692FB1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62F12-53B8-404B-BFA8-254BA9D5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62AD6-1345-4C80-A95D-28946C4A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96F22-3040-45A2-870E-6A187040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A0792-B6C5-4067-A581-3BE57FA5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11CCC-5495-48A1-B391-F5F2BEDC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2ED-B040-433C-8125-CBEFCFB8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F91A9-F712-4148-B204-29DB05A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C5B8E-5C4B-4E27-AE05-7F0F7782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5CD4C-551E-4521-82A1-EED2ADDB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07FB9-6801-4FD1-844F-12DD1B9D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9CA1B-4F5F-4841-A5FC-B49FBB5B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2F642-F102-42AC-942E-813C4CE0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13523-3D98-4221-855E-897AD87E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370F1-4BDF-48AC-9752-5D93EE1D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9927-5EB3-483A-A3AB-63B1D069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AD0D6-9031-4241-A801-29C27E74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A76-877D-413E-9F24-7FA99435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DE6DB-0541-4405-B7D8-4B08BF24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D069B-53E7-4B71-A6A9-5D0A803D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A3596-06AA-4257-8438-781B3F5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5C8C2-3E68-46FA-A728-22D9340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74BBB-91F9-42AB-97DC-D2F4EA6F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0A15-6C8A-4078-94C1-8A24EB7A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E3091-A5E1-41E3-99A0-4EFD8DFC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1FA8C-F970-4529-BA28-EE0183CB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B81DC-C530-41A4-903D-BA1B841E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D9EDE-6B29-4FBA-AE8C-3488442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DFE2-C46D-4F4E-B43B-771B0D70D40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D709-2582-4192-98A5-19A2D690009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A5DB-B56B-461D-98DB-C43DD114F2F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554C-442B-4211-A23F-0A56BFCAC1A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9E00-A858-402D-A27A-E4D892F45B4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D8D8-1E46-4114-9E39-6ABE038268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AF13-5E4F-47BE-9C4A-74D4C7D34A5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6998-319F-4795-A0FB-402944CBED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5BD7-D6C2-4C79-8118-AD2C3D901D9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FFC0-5857-4DA1-A94F-CBB4B56B57A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174E-D028-4B67-9D13-799379EBD3D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EE1E-0646-4135-AA11-812CFD0EFA2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"/>
                <a:ea typeface="Arial"/>
              </a:rPr>
              <a:t>Sila – uzrok promj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đudjelovanje i 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Arial"/>
              </a:rPr>
              <a:t>Sila kao vektor</a:t>
            </a: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642960" y="1571760"/>
            <a:ext cx="42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ila je vektorska velič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028880" y="3657600"/>
            <a:ext cx="681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a djeluje du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vca djelov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mjere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e prikazano je strelic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vatište s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 početna točka u kojoj djeluje s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0390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31920" y="1676520"/>
            <a:ext cx="61304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i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oznaka za silu kao fizikalnu veličin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 su učinc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međudjelovanja na tijel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ile djeluju između tijela u dodir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ile djeluju između udaljenih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ašto je sila vektorska veličin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ile mogu biti i privlačne i odboj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Slika 1" descr=""/>
          <p:cNvPicPr/>
          <p:nvPr/>
        </p:nvPicPr>
        <p:blipFill>
          <a:blip r:embed="rId1"/>
          <a:stretch/>
        </p:blipFill>
        <p:spPr>
          <a:xfrm>
            <a:off x="298440" y="93024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769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će li se tijelo pokrenuti samo od se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ćeš pomaknuti klupu ili stola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lopti promijeniti smjer giban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žemo li tijelu promijeniti oblik? Ka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2863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304920" y="14479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a pokreće tij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0"/>
          <p:cNvSpPr/>
          <p:nvPr/>
        </p:nvSpPr>
        <p:spPr>
          <a:xfrm>
            <a:off x="881280" y="4724280"/>
            <a:ext cx="76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ćeš pomaknuti knjigu sa st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da knjigu ispustimo iz ruke zašto ona padne na st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3809880" cy="2278080"/>
          </a:xfrm>
          <a:prstGeom prst="rect">
            <a:avLst/>
          </a:prstGeom>
          <a:ln w="0">
            <a:noFill/>
          </a:ln>
        </p:spPr>
      </p:pic>
      <p:pic>
        <p:nvPicPr>
          <p:cNvPr id="511" name="Slika 5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0"/>
          <p:cNvSpPr/>
          <p:nvPr/>
        </p:nvSpPr>
        <p:spPr>
          <a:xfrm>
            <a:off x="547920" y="1752480"/>
            <a:ext cx="819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la je fizikalna veličina kojom opisujemo djelovanje jedn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a na drugo tij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znaka za silu j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10"/>
          <p:cNvSpPr/>
          <p:nvPr/>
        </p:nvSpPr>
        <p:spPr>
          <a:xfrm>
            <a:off x="459360" y="1447920"/>
            <a:ext cx="64580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  <a:ea typeface="Arial"/>
              </a:rPr>
              <a:t>Učinci djelovanja sile na tijelo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jena oblika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jena stanja gib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jena smjera gib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mbinacija navedenih učina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0"/>
          <p:cNvSpPr/>
          <p:nvPr/>
        </p:nvSpPr>
        <p:spPr>
          <a:xfrm>
            <a:off x="485640" y="1447920"/>
            <a:ext cx="5656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ko su tijela u neposrednu dodi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7254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Međudjelovanje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7013160" y="5257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isn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2517480" y="52578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ila tr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4575240" y="52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lastičn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308160" y="52578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išićn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4" descr="trenje"/>
          <p:cNvPicPr/>
          <p:nvPr/>
        </p:nvPicPr>
        <p:blipFill>
          <a:blip r:embed="rId1"/>
          <a:stretch/>
        </p:blipFill>
        <p:spPr>
          <a:xfrm>
            <a:off x="2514600" y="3352680"/>
            <a:ext cx="1828800" cy="1602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5" descr="elastična sila"/>
          <p:cNvPicPr/>
          <p:nvPr/>
        </p:nvPicPr>
        <p:blipFill>
          <a:blip r:embed="rId2"/>
          <a:stretch/>
        </p:blipFill>
        <p:spPr>
          <a:xfrm>
            <a:off x="4495680" y="3648240"/>
            <a:ext cx="2057400" cy="132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6" descr="potisna"/>
          <p:cNvPicPr/>
          <p:nvPr/>
        </p:nvPicPr>
        <p:blipFill>
          <a:blip r:embed="rId3"/>
          <a:stretch/>
        </p:blipFill>
        <p:spPr>
          <a:xfrm>
            <a:off x="6934320" y="2362320"/>
            <a:ext cx="1811160" cy="265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7" descr="sila1"/>
          <p:cNvPicPr/>
          <p:nvPr/>
        </p:nvPicPr>
        <p:blipFill>
          <a:blip r:embed="rId4"/>
          <a:stretch/>
        </p:blipFill>
        <p:spPr>
          <a:xfrm>
            <a:off x="228600" y="2666880"/>
            <a:ext cx="1855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0"/>
          <p:cNvSpPr/>
          <p:nvPr/>
        </p:nvSpPr>
        <p:spPr>
          <a:xfrm>
            <a:off x="492840" y="1447920"/>
            <a:ext cx="730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d su tijela u dodiru i kad su tijela udal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7254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7375e"/>
                </a:solidFill>
                <a:latin typeface="Arial"/>
                <a:ea typeface="Arial"/>
              </a:rPr>
              <a:t>Međudjelovanje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901800" y="5446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lektričn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3660840" y="54100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gnetsk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6555600" y="54100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ila tež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2" descr="magnetska sila"/>
          <p:cNvPicPr/>
          <p:nvPr/>
        </p:nvPicPr>
        <p:blipFill>
          <a:blip r:embed="rId1"/>
          <a:stretch/>
        </p:blipFill>
        <p:spPr>
          <a:xfrm>
            <a:off x="3505320" y="33526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3" descr="slobodan pad"/>
          <p:cNvPicPr/>
          <p:nvPr/>
        </p:nvPicPr>
        <p:blipFill>
          <a:blip r:embed="rId2"/>
          <a:stretch/>
        </p:blipFill>
        <p:spPr>
          <a:xfrm>
            <a:off x="6248520" y="3352680"/>
            <a:ext cx="2412720" cy="1611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4" descr="elektricna sila"/>
          <p:cNvPicPr/>
          <p:nvPr/>
        </p:nvPicPr>
        <p:blipFill>
          <a:blip r:embed="rId3"/>
          <a:stretch/>
        </p:blipFill>
        <p:spPr>
          <a:xfrm>
            <a:off x="457200" y="3330720"/>
            <a:ext cx="243828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4"/>
          <p:cNvSpPr/>
          <p:nvPr/>
        </p:nvSpPr>
        <p:spPr>
          <a:xfrm>
            <a:off x="0" y="1295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gnetsko međudjelov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400760" y="5334120"/>
            <a:ext cx="6310080" cy="64260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gnetska sila može  biti privlačna i odboj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228600" y="1981080"/>
            <a:ext cx="8686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se događa kada magnet približimo spajalicam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048120" cy="2108160"/>
          </a:xfrm>
          <a:prstGeom prst="rect">
            <a:avLst/>
          </a:prstGeom>
          <a:ln w="0">
            <a:noFill/>
          </a:ln>
        </p:spPr>
      </p:pic>
      <p:pic>
        <p:nvPicPr>
          <p:cNvPr id="536" name="Slika 6" descr=""/>
          <p:cNvPicPr/>
          <p:nvPr/>
        </p:nvPicPr>
        <p:blipFill>
          <a:blip r:embed="rId2"/>
          <a:stretch/>
        </p:blipFill>
        <p:spPr>
          <a:xfrm>
            <a:off x="380880" y="743040"/>
            <a:ext cx="135756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0" y="1295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ktrično međudjelov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650160" y="5486400"/>
            <a:ext cx="7950240" cy="64260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ktrična sila među tijelima može biti privlačna i odboj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404800" cy="21718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6"/>
          <p:cNvSpPr/>
          <p:nvPr/>
        </p:nvSpPr>
        <p:spPr>
          <a:xfrm>
            <a:off x="228600" y="1981080"/>
            <a:ext cx="8686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ašto se baloni nakon trljanja vunenom krpicom odmakn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edan od drugog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Slika 1" descr=""/>
          <p:cNvPicPr/>
          <p:nvPr/>
        </p:nvPicPr>
        <p:blipFill>
          <a:blip r:embed="rId2"/>
          <a:stretch/>
        </p:blipFill>
        <p:spPr>
          <a:xfrm>
            <a:off x="152280" y="919080"/>
            <a:ext cx="1328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0:26Z</dcterms:created>
  <dc:creator>Slavko</dc:creator>
  <dc:description/>
  <dc:language>en-US</dc:language>
  <cp:lastModifiedBy>Tomislav Dumančić</cp:lastModifiedBy>
  <dcterms:modified xsi:type="dcterms:W3CDTF">2019-09-17T08:25:55Z</dcterms:modified>
  <cp:revision>21</cp:revision>
  <dc:subject/>
  <dc:title>Slide 1</dc:title>
</cp:coreProperties>
</file>